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ADE-A20A-46C9-9BCA-20029C2F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C2D-EC5E-42A3-932E-5BFDBCD1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1E6-C639-44F8-BC02-2472B81C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2D6-9C87-4207-B94C-C63EB359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CCC-08D0-4E70-BAC7-42BB22EB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C84-7CD6-44C0-A89E-230327DD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96A-2374-4CF1-96D6-07A6C153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D6D-6398-4CDC-B861-9D3D4D6E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738-32AE-4A19-A559-9F24ABAD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E63-CD66-4586-97C6-901E4372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CCE-3D80-491D-87CC-F0DD9EC8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4D4-701E-4AC7-830D-33269F21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76DD-C28A-4E96-9B5C-66E93C58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6665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360" y="2590920"/>
            <a:ext cx="5181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«Я родом из Якутии!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ту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ойми мен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5880" y="4267080"/>
            <a:ext cx="2743200" cy="1676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верье 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438280"/>
            <a:ext cx="2895480" cy="1676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й мороз, моро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4267080"/>
            <a:ext cx="2743200" cy="1676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ть сос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267080"/>
            <a:ext cx="2743200" cy="1676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ыча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2438280"/>
            <a:ext cx="2743200" cy="1676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ва у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533520"/>
            <a:ext cx="2743200" cy="1676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ужу Отечеств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LD</cp:lastModifiedBy>
  <dcterms:modified xsi:type="dcterms:W3CDTF">2011-04-04T04:44:3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